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ED0-849B-4B70-B3D5-580628C9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FCD-80DA-4EEE-8832-4C04CEBA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838-AB32-439F-8C85-71066526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34EE-2EEA-46C8-B098-B44F41F9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C0F5-47B4-4E19-98CB-F59F9C56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AEA4-1F0C-4331-884F-80AE8347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1BA0-58A7-4FF0-BEC2-741CC10E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B8CF-B8AE-4E23-B126-466DB785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E5E3-1B17-4A38-B97C-FC7108CD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B35D-6627-4BD5-9749-B9B24F75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566D-6E21-4AAF-88E2-56FEB1B4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069-CF0C-4A0F-9477-AB275E5B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FA47-B983-4908-92FC-70739345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0652-2109-4E2B-B14B-90332DAF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A900-BCDE-40DF-BF4A-09EE5C7A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E648-2A19-46D3-83DA-B0DEB8F2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E597-1B55-49AF-8B54-9D5E18AF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8CB2-5ADF-4C08-B9FF-CBF3FE9A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1F5-C250-46D8-90AF-820912B2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5356-CAD6-4F73-BDBF-5E4C4378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B0F-DCFE-44D8-BB11-2B76AAC3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10E-4FE2-43DB-8A7E-E979DC1B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189-CD49-4C33-8A7B-FB7C3956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4E5-2365-432C-A5DD-5C3B3157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6A17-CF90-4B83-AF0D-45447E9088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DFFC-E0DF-452D-9F5E-A508A2B87E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Роль информации в современном обществе.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водная презентац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Соответствовать требованиям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XXI</a:t>
            </a: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 век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0240" y="1815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деры всех стран мира, стремясь подготовить своих граждан к тому, чтобы в полной мере соответствовать требования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, заявляют, чт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ля информационного общества необходимы граждане, владеющие современными зна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Обществу грозит хроническое отстава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4960" y="1491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тивном случае, обществу грозит хроническое отставание, несостоятельность в решении тех задач, которые ставит перед ни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. Человек сегодня нуждается не только в новых практических навыках и теоретических  знаниях, но и в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пособности постоянно совершенствовать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эти знания и нав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0033"/>
                </a:solidFill>
                <a:latin typeface="Times New Roman"/>
              </a:rPr>
              <a:t>Темы самостоятельных исследований: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илось ли в твоем городе информационное общество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кой степени каждый из вас обладает информационной культур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изменения произойдут в укладе жизни членов информационного общества: в работе, в учебе, в быт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амятка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по проведению исследова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ери одну из предложенных тем и укажи ав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вь проблемный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двини свои гипот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май ход своего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 оформи в виде таблицы или диа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елай 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забудь указать  использованную литерат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езультаты исследований можно оформить в вид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убл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арты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аблиц, ди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j0303355"/>
          <p:cNvPicPr/>
          <p:nvPr/>
        </p:nvPicPr>
        <p:blipFill>
          <a:blip r:embed="rId1"/>
          <a:stretch/>
        </p:blipFill>
        <p:spPr>
          <a:xfrm>
            <a:off x="5219640" y="2511360"/>
            <a:ext cx="2737080" cy="250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 рассчитан на 3 недели ( 5 ча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 rot="20605800">
            <a:off x="1052280" y="2781360"/>
            <a:ext cx="703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735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спехов вам в работе над проектом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735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ебная тем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нформатизация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5 ч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ополагающий вопрос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упрежден – значит вооруже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блемный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ое общество - это о россиянах или н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ебные вопрос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 «информационное общество». Каковы его характерные чер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 «информационные ресурсы» и «информационная культур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ы положительные и негативные последствия информат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ем нужны законодательные акты в информационной сфе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беспечить информационную безопасность лич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Дидактические цели проекта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информационной культуры учащих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КТ-компетен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компетентности в сфере самостоятельной, познавательной деятельности, навыков самостоятельной работы с большими объемами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становки на позитивную социальную деятельность в информационном обществе, на недопустимость действий, нарушающих этические, правовые нормы работы с информ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дачи проекта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воить понятия «информационное общество»,  «информационные ресурсы», «информационная безопасность», «информационная культу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учиться нормам информационной этики и права, соблюдению авторских прав на информационные ресур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учиться получать, обрабатывать и обобщать полученную информацию в результате проведенных социологических опросов, поиска данных в различных источниках, в том числе Интер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е предм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ни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щиеся 9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64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Захватывающие, до сих пор не существовавшие возмож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228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, основанные на Интернете, телекоммуникационных и интеллектуальных компьюте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ных системах, открываю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д новыми поколениям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хватывающие, до сих пор не существовавшие возмож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вободного распространения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ые факторы, определяющие перспективы развития обществ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3200" y="19126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о всём мире люди надеются, что новые технологии приведут к более здоровому образу жизни, большим социальным свободам, растущему уровню знаний. Будущим поколениям придётся столкнуться с необходимостью приспосабливаться к новой социальной среде, где не природные ресурсы и энергия, а </a:t>
            </a:r>
            <a:r>
              <a:rPr b="1" i="1" lang="ru-RU" sz="2300" spc="-1" strike="noStrike">
                <a:solidFill>
                  <a:srgbClr val="ff0000"/>
                </a:solidFill>
                <a:latin typeface="Arial"/>
              </a:rPr>
              <a:t>информация и научное знание станут основными факторами, </a:t>
            </a:r>
            <a:br>
              <a:rPr sz="2300"/>
            </a:br>
            <a:r>
              <a:rPr b="1" i="1" lang="ru-RU" sz="2300" spc="-1" strike="noStrike">
                <a:solidFill>
                  <a:srgbClr val="ff0000"/>
                </a:solidFill>
                <a:latin typeface="Arial"/>
              </a:rPr>
              <a:t>определяющими перспективы</a:t>
            </a:r>
            <a:br>
              <a:rPr sz="2300"/>
            </a:br>
            <a:r>
              <a:rPr b="1" i="1" lang="ru-RU" sz="2300" spc="-1" strike="noStrike">
                <a:solidFill>
                  <a:srgbClr val="ff0000"/>
                </a:solidFill>
                <a:latin typeface="Arial"/>
              </a:rPr>
              <a:t> развития обществ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9:08:49Z</dcterms:created>
  <dc:creator>Челядина</dc:creator>
  <dc:description/>
  <dc:language>en-US</dc:language>
  <cp:lastModifiedBy>NITRO</cp:lastModifiedBy>
  <dcterms:modified xsi:type="dcterms:W3CDTF">2010-06-03T07:36:01Z</dcterms:modified>
  <cp:revision>8</cp:revision>
  <dc:subject/>
  <dc:title>Роль информации в современном обществе.</dc:title>
</cp:coreProperties>
</file>